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1B0-DF1B-42C2-A3B2-19F3D9A4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5E5-BAD4-406E-93E8-6CC65342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C01-D673-4FCD-8C8F-B68072F5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764-56D6-4C1B-B51A-35F37758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7D0-EC8A-4AA3-B62F-F26FA51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0C1-9304-46E3-898C-9DA6C25A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273-834C-4F3B-ABD1-0C687211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E31-D837-4EA0-8572-D0791A5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C98-B6B1-497A-9C4C-B9FB8B55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E47-18E8-45EF-AD59-EB8A2AB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254-6A3D-4B58-B728-DBEBA74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F24-B911-45FB-8034-507B171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47D-E683-49F0-A9F1-48DBD9D37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 Got My P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chilly October night and I was playing in the leaves. Under a pile of leaves, I found two newborn pupp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1120" y="3276720"/>
            <a:ext cx="4181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er help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tree I found the mother dog! She had a license that said, ‘116 Huntsville, Alabama 5678910. So I called her and I said ‘Your dog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62520" y="4038480"/>
            <a:ext cx="208116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for a c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uppies.’ She said, ‘No wonder Rose was acting cranky lately. ’I said, ‘Your dog was under a tree and the puppies were under a pile of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335304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813040" cy="266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s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 came to her house. As  a reward, she gave me a puppy and I named her Kisses.  THE END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389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7:12Z</dcterms:created>
  <dc:creator>student</dc:creator>
  <dc:description/>
  <dc:language>en-US</dc:language>
  <cp:lastModifiedBy>student</cp:lastModifiedBy>
  <dcterms:modified xsi:type="dcterms:W3CDTF">2010-10-28T18:01:34Z</dcterms:modified>
  <cp:revision>5</cp:revision>
  <dc:subject/>
  <dc:title>Bella</dc:title>
</cp:coreProperties>
</file>